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02A-EC4E-40CC-9B04-4DF3CC27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E38-0E01-43C2-9E32-80ADBF2C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232-B816-481D-BE3C-D63D8C16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C49-3B86-4ADF-94C6-36D12E4E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CE3-AF57-4FFB-A8DC-04140373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360-9DAB-4005-BED4-16939DDA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652-CCEC-44FF-817C-953FBAED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DB0-7E1A-486A-9338-B3245F09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630-5D28-4B0C-991F-476F4E98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D6D-22EF-4C7E-B771-ABFE0129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395-CEAC-4792-8CD2-530B6D7A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862-D3E0-42FE-8C21-821260E8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27640" y="6381720"/>
            <a:ext cx="28908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00C5-BBA5-4FEF-8632-6C23FDF0D71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56720" y="6308640"/>
            <a:ext cx="419040" cy="419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459640" y="6164280"/>
            <a:ext cx="576360" cy="57636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5326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quared and Cub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701720"/>
            <a:ext cx="2374920" cy="2374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557360"/>
            <a:ext cx="2447640" cy="244800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5440" y="2492280"/>
            <a:ext cx="2449800" cy="764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FC0-2A0F-4AE9-84FD-692CD4F9B7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 2: 2m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3 squared =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how can we wr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square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squa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 squa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 squa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.5 squa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9 squa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3.8 squa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56360" y="1600200"/>
            <a:ext cx="2232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1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19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24.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-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-3.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35280" y="1600200"/>
            <a:ext cx="24494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2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8 x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13 x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199 x 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24.5 x 2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-9 x 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-3.8 x -3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73720" y="252360"/>
            <a:ext cx="2671920" cy="1455840"/>
          </a:xfrm>
          <a:prstGeom prst="irregularSeal2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u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1DB-285F-494C-80BE-1DC092C8C6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8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how to CUBE a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86E-23CD-49DD-974E-903D88ACDA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n you tell me about a cub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7640" y="5589360"/>
            <a:ext cx="8219880" cy="5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th, height and length are equal (all edges are the s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6600" y="2179800"/>
            <a:ext cx="2018520" cy="1909080"/>
            <a:chOff x="606600" y="2179800"/>
            <a:chExt cx="2018520" cy="1909080"/>
          </a:xfrm>
        </p:grpSpPr>
        <p:sp>
          <p:nvSpPr>
            <p:cNvPr id="166" name=""/>
            <p:cNvSpPr/>
            <p:nvPr/>
          </p:nvSpPr>
          <p:spPr>
            <a:xfrm>
              <a:off x="606600" y="2838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98960" y="3629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038240" y="2179800"/>
              <a:ext cx="1439640" cy="1450800"/>
              <a:chOff x="1038240" y="2179800"/>
              <a:chExt cx="1439640" cy="1450800"/>
            </a:xfrm>
          </p:grpSpPr>
          <p:sp>
            <p:nvSpPr>
              <p:cNvPr id="169" name=""/>
              <p:cNvSpPr/>
              <p:nvPr/>
            </p:nvSpPr>
            <p:spPr>
              <a:xfrm>
                <a:off x="1038240" y="2190960"/>
                <a:ext cx="1439640" cy="1439640"/>
              </a:xfrm>
              <a:prstGeom prst="cube">
                <a:avLst>
                  <a:gd name="adj" fmla="val 25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1038240" y="2551320"/>
                <a:ext cx="1079280" cy="1079280"/>
                <a:chOff x="1038240" y="2551320"/>
                <a:chExt cx="1079280" cy="10792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038240" y="2551320"/>
                  <a:ext cx="1079280" cy="107928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398240" y="255132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757160" y="255132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38240" y="291168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38240" y="327204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 flipV="1">
                <a:off x="2117520" y="2550960"/>
                <a:ext cx="360360" cy="36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117520" y="2911680"/>
                <a:ext cx="36036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1398600" y="2179800"/>
                <a:ext cx="363240" cy="371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1757160" y="2190960"/>
                <a:ext cx="363600" cy="371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68200" y="2419560"/>
                <a:ext cx="1081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93840" y="229392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43160" y="2419560"/>
                <a:ext cx="0" cy="10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71680" y="2295720"/>
                <a:ext cx="0" cy="108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275200" y="334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59280" y="1844640"/>
            <a:ext cx="3240000" cy="3412440"/>
            <a:chOff x="3959280" y="1844640"/>
            <a:chExt cx="3240000" cy="3412440"/>
          </a:xfrm>
        </p:grpSpPr>
        <p:sp>
          <p:nvSpPr>
            <p:cNvPr id="186" name=""/>
            <p:cNvSpPr/>
            <p:nvPr/>
          </p:nvSpPr>
          <p:spPr>
            <a:xfrm>
              <a:off x="4319640" y="1844640"/>
              <a:ext cx="2879640" cy="28796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319640" y="2565360"/>
              <a:ext cx="2158560" cy="2158560"/>
              <a:chOff x="4319640" y="2565360"/>
              <a:chExt cx="2158560" cy="215856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5398920" y="3644640"/>
                <a:ext cx="1079280" cy="1079280"/>
                <a:chOff x="5398920" y="3644640"/>
                <a:chExt cx="1079280" cy="10792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398920" y="3644640"/>
                  <a:ext cx="1079280" cy="107928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58920" y="364464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117840" y="364464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98920" y="400500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398920" y="436536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319640" y="3644640"/>
                <a:ext cx="1079280" cy="1079280"/>
                <a:chOff x="4319640" y="3644640"/>
                <a:chExt cx="1079280" cy="10792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319640" y="3644640"/>
                  <a:ext cx="1079280" cy="107928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79640" y="364464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038560" y="364464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319640" y="400500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319640" y="436536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398920" y="2565360"/>
                <a:ext cx="1079280" cy="1079280"/>
                <a:chOff x="5398920" y="2565360"/>
                <a:chExt cx="1079280" cy="10792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398920" y="2565360"/>
                  <a:ext cx="1079280" cy="107928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58920" y="256536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117840" y="256536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398920" y="292572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398920" y="328608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319640" y="2565360"/>
                <a:ext cx="1079280" cy="1079280"/>
                <a:chOff x="4319640" y="2565360"/>
                <a:chExt cx="1079280" cy="10792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319640" y="2565360"/>
                  <a:ext cx="1079280" cy="107928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679640" y="256536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38560" y="2565360"/>
                  <a:ext cx="0" cy="107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319640" y="292572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319640" y="3286080"/>
                  <a:ext cx="107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3959280" y="342900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29440" y="4797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478560" y="2203560"/>
              <a:ext cx="72072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78560" y="2563920"/>
              <a:ext cx="72072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478560" y="2924280"/>
              <a:ext cx="72072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478560" y="3645000"/>
              <a:ext cx="72072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478560" y="3284640"/>
              <a:ext cx="72072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80000" y="1846080"/>
              <a:ext cx="719280" cy="71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040360" y="1844640"/>
              <a:ext cx="719280" cy="7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400720" y="1844640"/>
              <a:ext cx="719280" cy="7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759640" y="1844640"/>
              <a:ext cx="718920" cy="7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120000" y="1844640"/>
              <a:ext cx="718920" cy="7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1400" y="2432160"/>
              <a:ext cx="216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84600" y="2298600"/>
              <a:ext cx="216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29320" y="2155680"/>
              <a:ext cx="21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49920" y="2033640"/>
              <a:ext cx="21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6120" y="1927080"/>
              <a:ext cx="216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12120" y="2432160"/>
              <a:ext cx="0" cy="21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45320" y="2298600"/>
              <a:ext cx="0" cy="215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89680" y="2155680"/>
              <a:ext cx="0" cy="215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08840" y="2033640"/>
              <a:ext cx="0" cy="21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16840" y="1927080"/>
              <a:ext cx="0" cy="215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47200" y="43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E95-CCA1-4011-817B-59F598FFCA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find the volume of a cu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y the height by the width by the 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4520" y="35002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4160" y="45813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68720" y="3375000"/>
            <a:ext cx="25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x 3 x 3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14600" y="41576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195640" y="2986200"/>
            <a:ext cx="1458360" cy="1450800"/>
            <a:chOff x="2195640" y="2986200"/>
            <a:chExt cx="1458360" cy="1450800"/>
          </a:xfrm>
        </p:grpSpPr>
        <p:sp>
          <p:nvSpPr>
            <p:cNvPr id="242" name=""/>
            <p:cNvSpPr/>
            <p:nvPr/>
          </p:nvSpPr>
          <p:spPr>
            <a:xfrm>
              <a:off x="2195640" y="2997360"/>
              <a:ext cx="1439640" cy="14396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274920" y="3357360"/>
              <a:ext cx="36036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274920" y="3718080"/>
              <a:ext cx="360360" cy="35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556000" y="2986200"/>
              <a:ext cx="363240" cy="37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914560" y="2997000"/>
              <a:ext cx="363600" cy="37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25600" y="3225960"/>
              <a:ext cx="1081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51240" y="3100320"/>
              <a:ext cx="107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00560" y="3225960"/>
              <a:ext cx="0" cy="1082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29080" y="3102120"/>
              <a:ext cx="0" cy="10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195640" y="3357720"/>
              <a:ext cx="1081080" cy="1079280"/>
              <a:chOff x="2195640" y="3357720"/>
              <a:chExt cx="1081080" cy="107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195640" y="3357720"/>
                <a:ext cx="360360" cy="358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56000" y="3357720"/>
                <a:ext cx="360360" cy="358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95640" y="3716280"/>
                <a:ext cx="360360" cy="358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556000" y="3716280"/>
                <a:ext cx="360360" cy="358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195640" y="4076640"/>
                <a:ext cx="360360" cy="358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56000" y="4076640"/>
                <a:ext cx="360360" cy="358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916360" y="3357720"/>
                <a:ext cx="360360" cy="358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916360" y="3716280"/>
                <a:ext cx="360360" cy="358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916360" y="4078440"/>
                <a:ext cx="360360" cy="358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 flipV="1" rot="16200000">
              <a:off x="3213000" y="4149000"/>
              <a:ext cx="269640" cy="142920"/>
            </a:xfrm>
            <a:prstGeom prst="flowChartInputOutpu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16200000">
              <a:off x="3331800" y="4005000"/>
              <a:ext cx="272880" cy="142920"/>
            </a:xfrm>
            <a:prstGeom prst="flowChartInputOutpu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16200000">
              <a:off x="3447360" y="3884400"/>
              <a:ext cx="270000" cy="142920"/>
            </a:xfrm>
            <a:prstGeom prst="flowChartInputOutpu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18400" y="2869920"/>
            <a:ext cx="1458360" cy="1450800"/>
            <a:chOff x="6818400" y="2869920"/>
            <a:chExt cx="1458360" cy="1450800"/>
          </a:xfrm>
        </p:grpSpPr>
        <p:sp>
          <p:nvSpPr>
            <p:cNvPr id="265" name=""/>
            <p:cNvSpPr/>
            <p:nvPr/>
          </p:nvSpPr>
          <p:spPr>
            <a:xfrm>
              <a:off x="6818400" y="2881080"/>
              <a:ext cx="1439640" cy="14396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897680" y="3241440"/>
              <a:ext cx="36036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897680" y="3601800"/>
              <a:ext cx="360360" cy="35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178760" y="2869920"/>
              <a:ext cx="363240" cy="37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537320" y="2880720"/>
              <a:ext cx="363600" cy="37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48360" y="3109680"/>
              <a:ext cx="1081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74000" y="2984400"/>
              <a:ext cx="107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23320" y="3109680"/>
              <a:ext cx="0" cy="1082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51840" y="2985840"/>
              <a:ext cx="0" cy="108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18400" y="324144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78760" y="324144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18400" y="360036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78760" y="360036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18400" y="396072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78760" y="396072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39120" y="324144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39120" y="360036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39120" y="3962160"/>
              <a:ext cx="360360" cy="358560"/>
            </a:xfrm>
            <a:prstGeom prst="rect">
              <a:avLst/>
            </a:prstGeom>
            <a:noFill/>
            <a:ln w="93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 rot="16200000">
              <a:off x="7835760" y="4032720"/>
              <a:ext cx="269640" cy="142920"/>
            </a:xfrm>
            <a:prstGeom prst="flowChartInputOutpu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16200000">
              <a:off x="7954920" y="3888360"/>
              <a:ext cx="272520" cy="142920"/>
            </a:xfrm>
            <a:prstGeom prst="flowChartInputOutpu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16200000">
              <a:off x="8070480" y="3767760"/>
              <a:ext cx="269640" cy="142920"/>
            </a:xfrm>
            <a:prstGeom prst="flowChartInputOutpu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819840" y="3203640"/>
            <a:ext cx="109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D00-DAA6-4363-90A8-666227A6C6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cube a number mean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multiply the number by itself and then by itself agai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 cubed = 3 x 3 x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cubed = 5 x 5 x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 cubed = 8 x 8 x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0A8-2DF6-4BBF-B582-3CBCBC2A3E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586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3 cubed = 3 x 3 x 3, what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cubed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cubed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cubed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cubed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 3 – 2m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35280" y="1600200"/>
            <a:ext cx="2529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x 1 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x 2 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x 4 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x 5 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73720" y="252360"/>
            <a:ext cx="2671920" cy="1455840"/>
          </a:xfrm>
          <a:prstGeom prst="irregularSeal2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u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E05-D57B-46A7-BD1B-433FC707EE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bed’ can also be written like thi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cubed =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cubed =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cubed =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7891-93FA-4087-A638-59F6C3F5D3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 4: 2m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21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3 cubed =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how can we wri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cu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cu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cu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cu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1600200"/>
            <a:ext cx="2232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35280" y="1600200"/>
            <a:ext cx="24494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1 x 1 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2 x 2 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4 x 4 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5 x 5 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273720" y="252360"/>
            <a:ext cx="2671920" cy="1455840"/>
          </a:xfrm>
          <a:prstGeom prst="irregularSeal2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u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FD0-3CDA-4396-9889-CA276D31F2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5B5-59D2-4531-AFC6-18756C1E5E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5 things we have learned about square and cube numb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81AC-E986-4B40-B554-7B6EC7BE1F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1D2-179D-4F0A-BDC9-0639779620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uaring a number means multiplying it by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bing a number means multiplying it by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squared can be written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qu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cubed can be written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cu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8 x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6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41F-A1B3-4C5A-B1C6-D85E021DCF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how to SQUARE a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how to CUBE a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367-A6D6-4C3C-B79F-DA99602EA5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tell me about a squ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5589360"/>
            <a:ext cx="9144000" cy="5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ight and width are equal (both sides the s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867280" y="1484280"/>
            <a:ext cx="2879640" cy="2879280"/>
            <a:chOff x="5867280" y="1484280"/>
            <a:chExt cx="2879640" cy="2879280"/>
          </a:xfrm>
        </p:grpSpPr>
        <p:sp>
          <p:nvSpPr>
            <p:cNvPr id="51" name=""/>
            <p:cNvSpPr/>
            <p:nvPr/>
          </p:nvSpPr>
          <p:spPr>
            <a:xfrm>
              <a:off x="5867280" y="1484280"/>
              <a:ext cx="2879640" cy="2879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8360" y="1484280"/>
              <a:ext cx="0" cy="28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87280" y="1484280"/>
              <a:ext cx="0" cy="28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48000" y="1484280"/>
              <a:ext cx="0" cy="28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07280" y="1484280"/>
              <a:ext cx="0" cy="28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66200" y="1484280"/>
              <a:ext cx="0" cy="28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26920" y="1484280"/>
              <a:ext cx="0" cy="28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6200" y="1484280"/>
              <a:ext cx="0" cy="28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867280" y="1845360"/>
              <a:ext cx="2879280" cy="2157480"/>
              <a:chOff x="5867280" y="1845360"/>
              <a:chExt cx="2879280" cy="2157480"/>
            </a:xfrm>
          </p:grpSpPr>
          <p:sp>
            <p:nvSpPr>
              <p:cNvPr id="60" name=""/>
              <p:cNvSpPr/>
              <p:nvPr/>
            </p:nvSpPr>
            <p:spPr>
              <a:xfrm>
                <a:off x="5867280" y="4002840"/>
                <a:ext cx="28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867280" y="3643560"/>
                <a:ext cx="28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867280" y="3283200"/>
                <a:ext cx="28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67280" y="2924280"/>
                <a:ext cx="28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67280" y="2564640"/>
                <a:ext cx="28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867280" y="2204280"/>
                <a:ext cx="28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7280" y="1845360"/>
                <a:ext cx="28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11280" y="1773360"/>
            <a:ext cx="1079280" cy="1079280"/>
            <a:chOff x="611280" y="1773360"/>
            <a:chExt cx="1079280" cy="1079280"/>
          </a:xfrm>
        </p:grpSpPr>
        <p:sp>
          <p:nvSpPr>
            <p:cNvPr id="68" name=""/>
            <p:cNvSpPr/>
            <p:nvPr/>
          </p:nvSpPr>
          <p:spPr>
            <a:xfrm>
              <a:off x="611280" y="1773360"/>
              <a:ext cx="1079280" cy="1079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71280" y="1773360"/>
              <a:ext cx="0" cy="10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0200" y="1773360"/>
              <a:ext cx="0" cy="10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1280" y="2133720"/>
              <a:ext cx="107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1280" y="2494080"/>
              <a:ext cx="107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00360" y="2565360"/>
            <a:ext cx="2158560" cy="2158560"/>
            <a:chOff x="2700360" y="2565360"/>
            <a:chExt cx="2158560" cy="2158560"/>
          </a:xfrm>
        </p:grpSpPr>
        <p:grpSp>
          <p:nvGrpSpPr>
            <p:cNvPr id="74" name=""/>
            <p:cNvGrpSpPr/>
            <p:nvPr/>
          </p:nvGrpSpPr>
          <p:grpSpPr>
            <a:xfrm>
              <a:off x="3779640" y="3644640"/>
              <a:ext cx="1079280" cy="1079280"/>
              <a:chOff x="3779640" y="3644640"/>
              <a:chExt cx="1079280" cy="1079280"/>
            </a:xfrm>
          </p:grpSpPr>
          <p:sp>
            <p:nvSpPr>
              <p:cNvPr id="75" name=""/>
              <p:cNvSpPr/>
              <p:nvPr/>
            </p:nvSpPr>
            <p:spPr>
              <a:xfrm>
                <a:off x="3779640" y="3644640"/>
                <a:ext cx="1079280" cy="10792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39640" y="3644640"/>
                <a:ext cx="0" cy="107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498560" y="3644640"/>
                <a:ext cx="0" cy="107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79640" y="400500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640" y="436536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700360" y="3644640"/>
              <a:ext cx="1079280" cy="1079280"/>
              <a:chOff x="2700360" y="3644640"/>
              <a:chExt cx="1079280" cy="1079280"/>
            </a:xfrm>
          </p:grpSpPr>
          <p:sp>
            <p:nvSpPr>
              <p:cNvPr id="81" name=""/>
              <p:cNvSpPr/>
              <p:nvPr/>
            </p:nvSpPr>
            <p:spPr>
              <a:xfrm>
                <a:off x="2700360" y="3644640"/>
                <a:ext cx="1079280" cy="10792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060360" y="3644640"/>
                <a:ext cx="0" cy="107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419280" y="3644640"/>
                <a:ext cx="0" cy="107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700360" y="400500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00360" y="436536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3779640" y="2565360"/>
              <a:ext cx="1079280" cy="1079280"/>
              <a:chOff x="3779640" y="2565360"/>
              <a:chExt cx="1079280" cy="1079280"/>
            </a:xfrm>
          </p:grpSpPr>
          <p:sp>
            <p:nvSpPr>
              <p:cNvPr id="87" name=""/>
              <p:cNvSpPr/>
              <p:nvPr/>
            </p:nvSpPr>
            <p:spPr>
              <a:xfrm>
                <a:off x="3779640" y="2565360"/>
                <a:ext cx="1079280" cy="10792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9640" y="2565360"/>
                <a:ext cx="0" cy="107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498560" y="2565360"/>
                <a:ext cx="0" cy="107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79640" y="292572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79640" y="328608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700360" y="2565360"/>
              <a:ext cx="1079280" cy="1079280"/>
              <a:chOff x="2700360" y="2565360"/>
              <a:chExt cx="1079280" cy="1079280"/>
            </a:xfrm>
          </p:grpSpPr>
          <p:sp>
            <p:nvSpPr>
              <p:cNvPr id="93" name=""/>
              <p:cNvSpPr/>
              <p:nvPr/>
            </p:nvSpPr>
            <p:spPr>
              <a:xfrm>
                <a:off x="2700360" y="2565360"/>
                <a:ext cx="1079280" cy="10792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60360" y="2565360"/>
                <a:ext cx="0" cy="107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419280" y="2565360"/>
                <a:ext cx="0" cy="107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700360" y="292572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00360" y="3286080"/>
                <a:ext cx="107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25272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5080" y="2851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40000" y="34290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10160" y="47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052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6160" y="436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D9F-D3DA-4859-A066-457C755B04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find the area of a squ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y the height by the wid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124000" y="3068640"/>
            <a:ext cx="1440000" cy="1440000"/>
            <a:chOff x="2124000" y="3068640"/>
            <a:chExt cx="1440000" cy="1440000"/>
          </a:xfrm>
        </p:grpSpPr>
        <p:sp>
          <p:nvSpPr>
            <p:cNvPr id="107" name=""/>
            <p:cNvSpPr/>
            <p:nvPr/>
          </p:nvSpPr>
          <p:spPr>
            <a:xfrm>
              <a:off x="2124000" y="306864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4360" y="306864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3280" y="306864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3640" y="306864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342756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342756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43280" y="342756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03640" y="342756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24000" y="378936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84360" y="378936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43280" y="378936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03640" y="378936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24000" y="414828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84360" y="414828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43280" y="414828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03640" y="4148280"/>
              <a:ext cx="36036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974520" y="35002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4160" y="45813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69080" y="3375000"/>
            <a:ext cx="172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x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84720" y="3068640"/>
            <a:ext cx="1440000" cy="1440000"/>
            <a:chOff x="6084720" y="3068640"/>
            <a:chExt cx="1440000" cy="1440000"/>
          </a:xfrm>
        </p:grpSpPr>
        <p:grpSp>
          <p:nvGrpSpPr>
            <p:cNvPr id="127" name=""/>
            <p:cNvGrpSpPr/>
            <p:nvPr/>
          </p:nvGrpSpPr>
          <p:grpSpPr>
            <a:xfrm>
              <a:off x="6084720" y="3068640"/>
              <a:ext cx="1440000" cy="1440000"/>
              <a:chOff x="6084720" y="3068640"/>
              <a:chExt cx="1440000" cy="1440000"/>
            </a:xfrm>
          </p:grpSpPr>
          <p:sp>
            <p:nvSpPr>
              <p:cNvPr id="128" name=""/>
              <p:cNvSpPr/>
              <p:nvPr/>
            </p:nvSpPr>
            <p:spPr>
              <a:xfrm>
                <a:off x="6084720" y="306864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5080" y="306864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04000" y="306864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4360" y="306864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84720" y="342756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45080" y="342756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04000" y="342756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164360" y="342756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84720" y="378936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45080" y="378936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04000" y="378936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64360" y="378936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84720" y="414828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45080" y="414828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804000" y="414828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64360" y="4148280"/>
                <a:ext cx="360360" cy="36036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2c2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084720" y="3068640"/>
              <a:ext cx="1440000" cy="1440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DDD-2A6C-46D9-8FE0-A3B1ADFBBC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how to SQUARE a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AE4-269E-4614-A157-84D96CCF38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5E3-E3CB-4937-B4C8-F9B0D1DAA7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square a number mean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multiply the number by itself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 squared = 3 x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squared = 5 x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 squared = 8 x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6BD-1DBA-4B1B-BD68-0452D6D44D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 1 – 2m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3 squared = 3 x 3, w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squared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squar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 squar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 squar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.5 squar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9 squar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3.8 squar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1600200"/>
            <a:ext cx="2232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x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 x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 x 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.5 x 2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9 x 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3.8 x -3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73720" y="252360"/>
            <a:ext cx="2671920" cy="1455840"/>
          </a:xfrm>
          <a:prstGeom prst="irregularSeal2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u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D6B-BA3B-4BAE-959B-5BDAC69BD4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8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quared’ can also be written like thi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squared =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squared =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squared =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D86-6081-4234-9318-BFE9FBE782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3:57:00Z</dcterms:created>
  <dc:creator>Bruno Reddy</dc:creator>
  <dc:description/>
  <dc:language>en-US</dc:language>
  <cp:lastModifiedBy>Bruno Reddy</cp:lastModifiedBy>
  <dcterms:modified xsi:type="dcterms:W3CDTF">2004-11-02T01:52:11Z</dcterms:modified>
  <cp:revision>6</cp:revision>
  <dc:subject/>
  <dc:title>Squared and Cubed</dc:title>
</cp:coreProperties>
</file>